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AD7F-E94A-4398-A0E4-E5FBE212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58C5-934A-4ECF-A7D7-195AA09C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3355-FFCB-4B56-9DE1-58B714C1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2BD8-9FA3-439A-97AF-4CB32D23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0B3C-A096-4494-BE32-7A71763F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2305-DA4F-4D16-A49C-E487266A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CFD2-FF78-494A-9276-B78D85D6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AA88-BAB7-4A9C-812E-4CA288D2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3367-1524-44F6-9660-D1871375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8107-569F-41F2-AB75-61BEE9E7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CE5C-3B3E-4EE2-A950-654ECFE8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DFDE-8E65-4D2B-95D4-9C7FD51E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33DD-9479-4809-8E3A-D998EC0662A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160" y="2819520"/>
            <a:ext cx="635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RESISTENCIA DE MATER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PLICADA AL DIS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20840" y="380880"/>
            <a:ext cx="42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Confiabilidad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64320" y="1219320"/>
            <a:ext cx="225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1 - 0.08 z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2050920"/>
            <a:ext cx="175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274320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28195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38480" y="26668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036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84400" y="2438280"/>
            <a:ext cx="75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19440" y="3759120"/>
            <a:ext cx="6365520" cy="22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: media de las res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: media de los esfuer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: desviación estándar de las res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: desviación estándar de las res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676520" y="1523880"/>
          <a:ext cx="5638680" cy="290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5638680" cy="29037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23000" y="380880"/>
            <a:ext cx="421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Temperatura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2743200"/>
            <a:ext cx="87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60680" y="316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6760" y="2209680"/>
            <a:ext cx="589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T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840º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-5.8·10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(T-450)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450ºC &lt; T 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550º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2133720"/>
            <a:ext cx="152280" cy="1828800"/>
          </a:xfrm>
          <a:custGeom>
            <a:avLst/>
            <a:gdLst>
              <a:gd name="textAreaLeft" fmla="*/ 97200 w 152280"/>
              <a:gd name="textAreaRight" fmla="*/ 152640 w 1522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307160" y="533520"/>
            <a:ext cx="665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Concentración de Esfuerzos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81520" y="13716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21160" y="1066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73200" y="1676520"/>
            <a:ext cx="47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1600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30720" y="2590920"/>
            <a:ext cx="802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0160" y="2362320"/>
            <a:ext cx="43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ímite indurancia sin ent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2895480"/>
            <a:ext cx="4114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0160" y="2895480"/>
            <a:ext cx="43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ímite indurancia sin ent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8520" y="3962520"/>
            <a:ext cx="6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q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9520" y="3657600"/>
            <a:ext cx="86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9520" y="4191120"/>
            <a:ext cx="86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4191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5320" y="4952880"/>
            <a:ext cx="70995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q : sensibilidad al ent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: factor teórico de concentración de esfuer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591280" y="304920"/>
            <a:ext cx="35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Esfuerzos fluctu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8380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220968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2590920"/>
            <a:ext cx="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350532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4572000"/>
            <a:ext cx="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518148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1193760"/>
            <a:ext cx="2514600" cy="1359000"/>
          </a:xfrm>
          <a:custGeom>
            <a:avLst/>
            <a:gdLst/>
            <a:ahLst/>
            <a:rect l="l" t="t" r="r" b="b"/>
            <a:pathLst>
              <a:path w="1584" h="856">
                <a:moveTo>
                  <a:pt x="0" y="352"/>
                </a:moveTo>
                <a:cubicBezTo>
                  <a:pt x="48" y="304"/>
                  <a:pt x="96" y="256"/>
                  <a:pt x="144" y="208"/>
                </a:cubicBezTo>
                <a:cubicBezTo>
                  <a:pt x="192" y="160"/>
                  <a:pt x="240" y="96"/>
                  <a:pt x="288" y="64"/>
                </a:cubicBezTo>
                <a:cubicBezTo>
                  <a:pt x="336" y="32"/>
                  <a:pt x="392" y="0"/>
                  <a:pt x="432" y="16"/>
                </a:cubicBezTo>
                <a:cubicBezTo>
                  <a:pt x="472" y="32"/>
                  <a:pt x="504" y="112"/>
                  <a:pt x="528" y="160"/>
                </a:cubicBezTo>
                <a:cubicBezTo>
                  <a:pt x="552" y="208"/>
                  <a:pt x="560" y="256"/>
                  <a:pt x="576" y="304"/>
                </a:cubicBezTo>
                <a:cubicBezTo>
                  <a:pt x="592" y="352"/>
                  <a:pt x="608" y="408"/>
                  <a:pt x="624" y="448"/>
                </a:cubicBezTo>
                <a:cubicBezTo>
                  <a:pt x="640" y="488"/>
                  <a:pt x="656" y="504"/>
                  <a:pt x="672" y="544"/>
                </a:cubicBezTo>
                <a:cubicBezTo>
                  <a:pt x="688" y="584"/>
                  <a:pt x="688" y="640"/>
                  <a:pt x="720" y="688"/>
                </a:cubicBezTo>
                <a:cubicBezTo>
                  <a:pt x="752" y="736"/>
                  <a:pt x="816" y="808"/>
                  <a:pt x="864" y="832"/>
                </a:cubicBezTo>
                <a:cubicBezTo>
                  <a:pt x="912" y="856"/>
                  <a:pt x="968" y="840"/>
                  <a:pt x="1008" y="832"/>
                </a:cubicBezTo>
                <a:cubicBezTo>
                  <a:pt x="1048" y="824"/>
                  <a:pt x="1072" y="832"/>
                  <a:pt x="1104" y="784"/>
                </a:cubicBezTo>
                <a:cubicBezTo>
                  <a:pt x="1136" y="736"/>
                  <a:pt x="1160" y="608"/>
                  <a:pt x="1200" y="544"/>
                </a:cubicBezTo>
                <a:cubicBezTo>
                  <a:pt x="1240" y="480"/>
                  <a:pt x="1312" y="448"/>
                  <a:pt x="1344" y="400"/>
                </a:cubicBezTo>
                <a:cubicBezTo>
                  <a:pt x="1376" y="352"/>
                  <a:pt x="1368" y="304"/>
                  <a:pt x="1392" y="256"/>
                </a:cubicBezTo>
                <a:cubicBezTo>
                  <a:pt x="1416" y="208"/>
                  <a:pt x="1456" y="152"/>
                  <a:pt x="1488" y="112"/>
                </a:cubicBezTo>
                <a:cubicBezTo>
                  <a:pt x="1520" y="72"/>
                  <a:pt x="1552" y="44"/>
                  <a:pt x="1584" y="1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2946240"/>
            <a:ext cx="2895480" cy="1206720"/>
          </a:xfrm>
          <a:custGeom>
            <a:avLst/>
            <a:gdLst/>
            <a:ahLst/>
            <a:rect l="l" t="t" r="r" b="b"/>
            <a:pathLst>
              <a:path w="1824" h="760">
                <a:moveTo>
                  <a:pt x="0" y="640"/>
                </a:moveTo>
                <a:cubicBezTo>
                  <a:pt x="44" y="560"/>
                  <a:pt x="88" y="480"/>
                  <a:pt x="144" y="400"/>
                </a:cubicBezTo>
                <a:cubicBezTo>
                  <a:pt x="200" y="320"/>
                  <a:pt x="272" y="200"/>
                  <a:pt x="336" y="160"/>
                </a:cubicBezTo>
                <a:cubicBezTo>
                  <a:pt x="400" y="120"/>
                  <a:pt x="464" y="96"/>
                  <a:pt x="528" y="160"/>
                </a:cubicBezTo>
                <a:cubicBezTo>
                  <a:pt x="592" y="224"/>
                  <a:pt x="680" y="464"/>
                  <a:pt x="720" y="544"/>
                </a:cubicBezTo>
                <a:cubicBezTo>
                  <a:pt x="760" y="624"/>
                  <a:pt x="736" y="608"/>
                  <a:pt x="768" y="640"/>
                </a:cubicBezTo>
                <a:cubicBezTo>
                  <a:pt x="800" y="672"/>
                  <a:pt x="872" y="720"/>
                  <a:pt x="912" y="736"/>
                </a:cubicBezTo>
                <a:cubicBezTo>
                  <a:pt x="952" y="752"/>
                  <a:pt x="968" y="760"/>
                  <a:pt x="1008" y="736"/>
                </a:cubicBezTo>
                <a:cubicBezTo>
                  <a:pt x="1048" y="712"/>
                  <a:pt x="1096" y="680"/>
                  <a:pt x="1152" y="592"/>
                </a:cubicBezTo>
                <a:cubicBezTo>
                  <a:pt x="1208" y="504"/>
                  <a:pt x="1296" y="296"/>
                  <a:pt x="1344" y="208"/>
                </a:cubicBezTo>
                <a:cubicBezTo>
                  <a:pt x="1392" y="120"/>
                  <a:pt x="1392" y="96"/>
                  <a:pt x="1440" y="64"/>
                </a:cubicBezTo>
                <a:cubicBezTo>
                  <a:pt x="1488" y="32"/>
                  <a:pt x="1584" y="0"/>
                  <a:pt x="1632" y="16"/>
                </a:cubicBezTo>
                <a:cubicBezTo>
                  <a:pt x="1680" y="32"/>
                  <a:pt x="1696" y="128"/>
                  <a:pt x="1728" y="160"/>
                </a:cubicBezTo>
                <a:cubicBezTo>
                  <a:pt x="1760" y="192"/>
                  <a:pt x="1816" y="200"/>
                  <a:pt x="1824" y="20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4673520"/>
            <a:ext cx="2895480" cy="1473120"/>
          </a:xfrm>
          <a:custGeom>
            <a:avLst/>
            <a:gdLst/>
            <a:ahLst/>
            <a:rect l="l" t="t" r="r" b="b"/>
            <a:pathLst>
              <a:path w="1824" h="928">
                <a:moveTo>
                  <a:pt x="0" y="512"/>
                </a:moveTo>
                <a:cubicBezTo>
                  <a:pt x="8" y="452"/>
                  <a:pt x="16" y="392"/>
                  <a:pt x="48" y="320"/>
                </a:cubicBezTo>
                <a:cubicBezTo>
                  <a:pt x="80" y="248"/>
                  <a:pt x="152" y="96"/>
                  <a:pt x="192" y="80"/>
                </a:cubicBezTo>
                <a:cubicBezTo>
                  <a:pt x="232" y="64"/>
                  <a:pt x="264" y="184"/>
                  <a:pt x="288" y="224"/>
                </a:cubicBezTo>
                <a:cubicBezTo>
                  <a:pt x="312" y="264"/>
                  <a:pt x="304" y="280"/>
                  <a:pt x="336" y="320"/>
                </a:cubicBezTo>
                <a:cubicBezTo>
                  <a:pt x="368" y="360"/>
                  <a:pt x="440" y="472"/>
                  <a:pt x="480" y="464"/>
                </a:cubicBezTo>
                <a:cubicBezTo>
                  <a:pt x="520" y="456"/>
                  <a:pt x="544" y="336"/>
                  <a:pt x="576" y="272"/>
                </a:cubicBezTo>
                <a:cubicBezTo>
                  <a:pt x="608" y="208"/>
                  <a:pt x="640" y="120"/>
                  <a:pt x="672" y="80"/>
                </a:cubicBezTo>
                <a:cubicBezTo>
                  <a:pt x="704" y="40"/>
                  <a:pt x="744" y="24"/>
                  <a:pt x="768" y="32"/>
                </a:cubicBezTo>
                <a:cubicBezTo>
                  <a:pt x="792" y="40"/>
                  <a:pt x="768" y="0"/>
                  <a:pt x="816" y="128"/>
                </a:cubicBezTo>
                <a:cubicBezTo>
                  <a:pt x="864" y="256"/>
                  <a:pt x="992" y="672"/>
                  <a:pt x="1056" y="800"/>
                </a:cubicBezTo>
                <a:cubicBezTo>
                  <a:pt x="1120" y="928"/>
                  <a:pt x="1160" y="904"/>
                  <a:pt x="1200" y="896"/>
                </a:cubicBezTo>
                <a:cubicBezTo>
                  <a:pt x="1240" y="888"/>
                  <a:pt x="1264" y="784"/>
                  <a:pt x="1296" y="752"/>
                </a:cubicBezTo>
                <a:cubicBezTo>
                  <a:pt x="1328" y="720"/>
                  <a:pt x="1368" y="696"/>
                  <a:pt x="1392" y="704"/>
                </a:cubicBezTo>
                <a:cubicBezTo>
                  <a:pt x="1416" y="712"/>
                  <a:pt x="1424" y="768"/>
                  <a:pt x="1440" y="800"/>
                </a:cubicBezTo>
                <a:cubicBezTo>
                  <a:pt x="1456" y="832"/>
                  <a:pt x="1456" y="880"/>
                  <a:pt x="1488" y="896"/>
                </a:cubicBezTo>
                <a:cubicBezTo>
                  <a:pt x="1520" y="912"/>
                  <a:pt x="1600" y="920"/>
                  <a:pt x="1632" y="896"/>
                </a:cubicBezTo>
                <a:cubicBezTo>
                  <a:pt x="1664" y="872"/>
                  <a:pt x="1648" y="880"/>
                  <a:pt x="1680" y="752"/>
                </a:cubicBezTo>
                <a:cubicBezTo>
                  <a:pt x="1712" y="624"/>
                  <a:pt x="1768" y="376"/>
                  <a:pt x="1824" y="12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81480" y="1219320"/>
            <a:ext cx="0" cy="518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22096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81480" y="350532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81480" y="510552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1320" y="990720"/>
            <a:ext cx="2057400" cy="888840"/>
          </a:xfrm>
          <a:custGeom>
            <a:avLst/>
            <a:gdLst/>
            <a:ahLst/>
            <a:rect l="l" t="t" r="r" b="b"/>
            <a:pathLst>
              <a:path w="1536" h="752">
                <a:moveTo>
                  <a:pt x="0" y="440"/>
                </a:moveTo>
                <a:cubicBezTo>
                  <a:pt x="48" y="308"/>
                  <a:pt x="96" y="176"/>
                  <a:pt x="144" y="104"/>
                </a:cubicBezTo>
                <a:cubicBezTo>
                  <a:pt x="192" y="32"/>
                  <a:pt x="240" y="8"/>
                  <a:pt x="288" y="8"/>
                </a:cubicBezTo>
                <a:cubicBezTo>
                  <a:pt x="336" y="8"/>
                  <a:pt x="384" y="40"/>
                  <a:pt x="432" y="104"/>
                </a:cubicBezTo>
                <a:cubicBezTo>
                  <a:pt x="480" y="168"/>
                  <a:pt x="528" y="296"/>
                  <a:pt x="576" y="392"/>
                </a:cubicBezTo>
                <a:cubicBezTo>
                  <a:pt x="624" y="488"/>
                  <a:pt x="664" y="624"/>
                  <a:pt x="720" y="680"/>
                </a:cubicBezTo>
                <a:cubicBezTo>
                  <a:pt x="776" y="736"/>
                  <a:pt x="864" y="752"/>
                  <a:pt x="912" y="728"/>
                </a:cubicBezTo>
                <a:cubicBezTo>
                  <a:pt x="960" y="704"/>
                  <a:pt x="976" y="616"/>
                  <a:pt x="1008" y="536"/>
                </a:cubicBezTo>
                <a:cubicBezTo>
                  <a:pt x="1040" y="456"/>
                  <a:pt x="1080" y="320"/>
                  <a:pt x="1104" y="248"/>
                </a:cubicBezTo>
                <a:cubicBezTo>
                  <a:pt x="1128" y="176"/>
                  <a:pt x="1128" y="144"/>
                  <a:pt x="1152" y="104"/>
                </a:cubicBezTo>
                <a:cubicBezTo>
                  <a:pt x="1176" y="64"/>
                  <a:pt x="1216" y="16"/>
                  <a:pt x="1248" y="8"/>
                </a:cubicBezTo>
                <a:cubicBezTo>
                  <a:pt x="1280" y="0"/>
                  <a:pt x="1312" y="16"/>
                  <a:pt x="1344" y="56"/>
                </a:cubicBezTo>
                <a:cubicBezTo>
                  <a:pt x="1376" y="96"/>
                  <a:pt x="1408" y="168"/>
                  <a:pt x="1440" y="248"/>
                </a:cubicBezTo>
                <a:cubicBezTo>
                  <a:pt x="1472" y="328"/>
                  <a:pt x="1520" y="488"/>
                  <a:pt x="1536" y="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2590920"/>
            <a:ext cx="2057400" cy="888840"/>
          </a:xfrm>
          <a:custGeom>
            <a:avLst/>
            <a:gdLst/>
            <a:ahLst/>
            <a:rect l="l" t="t" r="r" b="b"/>
            <a:pathLst>
              <a:path w="1536" h="752">
                <a:moveTo>
                  <a:pt x="0" y="440"/>
                </a:moveTo>
                <a:cubicBezTo>
                  <a:pt x="48" y="308"/>
                  <a:pt x="96" y="176"/>
                  <a:pt x="144" y="104"/>
                </a:cubicBezTo>
                <a:cubicBezTo>
                  <a:pt x="192" y="32"/>
                  <a:pt x="240" y="8"/>
                  <a:pt x="288" y="8"/>
                </a:cubicBezTo>
                <a:cubicBezTo>
                  <a:pt x="336" y="8"/>
                  <a:pt x="384" y="40"/>
                  <a:pt x="432" y="104"/>
                </a:cubicBezTo>
                <a:cubicBezTo>
                  <a:pt x="480" y="168"/>
                  <a:pt x="528" y="296"/>
                  <a:pt x="576" y="392"/>
                </a:cubicBezTo>
                <a:cubicBezTo>
                  <a:pt x="624" y="488"/>
                  <a:pt x="664" y="624"/>
                  <a:pt x="720" y="680"/>
                </a:cubicBezTo>
                <a:cubicBezTo>
                  <a:pt x="776" y="736"/>
                  <a:pt x="864" y="752"/>
                  <a:pt x="912" y="728"/>
                </a:cubicBezTo>
                <a:cubicBezTo>
                  <a:pt x="960" y="704"/>
                  <a:pt x="976" y="616"/>
                  <a:pt x="1008" y="536"/>
                </a:cubicBezTo>
                <a:cubicBezTo>
                  <a:pt x="1040" y="456"/>
                  <a:pt x="1080" y="320"/>
                  <a:pt x="1104" y="248"/>
                </a:cubicBezTo>
                <a:cubicBezTo>
                  <a:pt x="1128" y="176"/>
                  <a:pt x="1128" y="144"/>
                  <a:pt x="1152" y="104"/>
                </a:cubicBezTo>
                <a:cubicBezTo>
                  <a:pt x="1176" y="64"/>
                  <a:pt x="1216" y="16"/>
                  <a:pt x="1248" y="8"/>
                </a:cubicBezTo>
                <a:cubicBezTo>
                  <a:pt x="1280" y="0"/>
                  <a:pt x="1312" y="16"/>
                  <a:pt x="1344" y="56"/>
                </a:cubicBezTo>
                <a:cubicBezTo>
                  <a:pt x="1376" y="96"/>
                  <a:pt x="1408" y="168"/>
                  <a:pt x="1440" y="248"/>
                </a:cubicBezTo>
                <a:cubicBezTo>
                  <a:pt x="1472" y="328"/>
                  <a:pt x="1520" y="488"/>
                  <a:pt x="1536" y="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4648320"/>
            <a:ext cx="2057400" cy="888840"/>
          </a:xfrm>
          <a:custGeom>
            <a:avLst/>
            <a:gdLst/>
            <a:ahLst/>
            <a:rect l="l" t="t" r="r" b="b"/>
            <a:pathLst>
              <a:path w="1536" h="752">
                <a:moveTo>
                  <a:pt x="0" y="440"/>
                </a:moveTo>
                <a:cubicBezTo>
                  <a:pt x="48" y="308"/>
                  <a:pt x="96" y="176"/>
                  <a:pt x="144" y="104"/>
                </a:cubicBezTo>
                <a:cubicBezTo>
                  <a:pt x="192" y="32"/>
                  <a:pt x="240" y="8"/>
                  <a:pt x="288" y="8"/>
                </a:cubicBezTo>
                <a:cubicBezTo>
                  <a:pt x="336" y="8"/>
                  <a:pt x="384" y="40"/>
                  <a:pt x="432" y="104"/>
                </a:cubicBezTo>
                <a:cubicBezTo>
                  <a:pt x="480" y="168"/>
                  <a:pt x="528" y="296"/>
                  <a:pt x="576" y="392"/>
                </a:cubicBezTo>
                <a:cubicBezTo>
                  <a:pt x="624" y="488"/>
                  <a:pt x="664" y="624"/>
                  <a:pt x="720" y="680"/>
                </a:cubicBezTo>
                <a:cubicBezTo>
                  <a:pt x="776" y="736"/>
                  <a:pt x="864" y="752"/>
                  <a:pt x="912" y="728"/>
                </a:cubicBezTo>
                <a:cubicBezTo>
                  <a:pt x="960" y="704"/>
                  <a:pt x="976" y="616"/>
                  <a:pt x="1008" y="536"/>
                </a:cubicBezTo>
                <a:cubicBezTo>
                  <a:pt x="1040" y="456"/>
                  <a:pt x="1080" y="320"/>
                  <a:pt x="1104" y="248"/>
                </a:cubicBezTo>
                <a:cubicBezTo>
                  <a:pt x="1128" y="176"/>
                  <a:pt x="1128" y="144"/>
                  <a:pt x="1152" y="104"/>
                </a:cubicBezTo>
                <a:cubicBezTo>
                  <a:pt x="1176" y="64"/>
                  <a:pt x="1216" y="16"/>
                  <a:pt x="1248" y="8"/>
                </a:cubicBezTo>
                <a:cubicBezTo>
                  <a:pt x="1280" y="0"/>
                  <a:pt x="1312" y="16"/>
                  <a:pt x="1344" y="56"/>
                </a:cubicBezTo>
                <a:cubicBezTo>
                  <a:pt x="1376" y="96"/>
                  <a:pt x="1408" y="168"/>
                  <a:pt x="1440" y="248"/>
                </a:cubicBezTo>
                <a:cubicBezTo>
                  <a:pt x="1472" y="328"/>
                  <a:pt x="1520" y="488"/>
                  <a:pt x="1536" y="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54880" y="1295280"/>
            <a:ext cx="73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38880" y="1752480"/>
            <a:ext cx="760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1600200"/>
            <a:ext cx="838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15440" y="838080"/>
            <a:ext cx="49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85240" y="1143000"/>
            <a:ext cx="47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9907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9907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19051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8880" y="1905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152388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990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1523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67480" y="990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53280" y="9907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30481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3800" y="251460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396252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975760" y="3049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Diagrama S-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1371600"/>
            <a:ext cx="6324480" cy="358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2057400"/>
            <a:ext cx="15238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95480" y="2438280"/>
            <a:ext cx="266724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2720" y="41148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146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2438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2895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895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31240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31240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3276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95680" y="3429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2590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81480" y="3657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3962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3886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40384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72200" y="3962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39625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4114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41911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4114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62920" y="40384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91520" y="4191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8120" y="137160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137160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1828800"/>
            <a:ext cx="4114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18288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37560" y="1447920"/>
            <a:ext cx="13482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da Fin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5120" y="1447920"/>
            <a:ext cx="14760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da Infin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44197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8120" y="4419720"/>
            <a:ext cx="46479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3520" y="3962520"/>
            <a:ext cx="147456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iclos Ba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3962520"/>
            <a:ext cx="14166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iclos Al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7240" y="1195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67480" y="5181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00160" y="5029200"/>
            <a:ext cx="5112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62480" y="5105520"/>
            <a:ext cx="5112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95600" y="304920"/>
            <a:ext cx="38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Diagrama de Good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8680" y="1252440"/>
            <a:ext cx="0" cy="281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68680" y="4068720"/>
            <a:ext cx="466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68680" y="4068720"/>
            <a:ext cx="0" cy="24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79760" y="5310360"/>
            <a:ext cx="17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79760" y="2825640"/>
            <a:ext cx="17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057400" y="1170000"/>
            <a:ext cx="4043520" cy="34020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668680" y="1749240"/>
            <a:ext cx="2727360" cy="1076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668680" y="1749240"/>
            <a:ext cx="2727360" cy="3560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55800" y="1749600"/>
            <a:ext cx="264024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68680" y="2411280"/>
            <a:ext cx="18478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040" y="1749600"/>
            <a:ext cx="0" cy="2319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16560" y="2411280"/>
            <a:ext cx="0" cy="1657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08240" y="22464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11680" y="208116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53040" y="191448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08560" y="208116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03680" y="191448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00600" y="191448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35280" y="232884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48160" y="216360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4112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19320" y="2577960"/>
            <a:ext cx="889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80080" y="2825640"/>
            <a:ext cx="889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32520" y="27432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32520" y="22464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27640" y="3736800"/>
            <a:ext cx="889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08560" y="38196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35280" y="473076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371760" y="506268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32200" y="51451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44720" y="547704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76640" y="489744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40160" y="448308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53040" y="3902040"/>
            <a:ext cx="87120" cy="84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16560" y="33228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04000" y="4068720"/>
            <a:ext cx="968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27320" y="838080"/>
            <a:ext cx="5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52720" y="141768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2720" y="199692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2720" y="249408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052720" y="497988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43600" y="390204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64120" y="390204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20026800">
            <a:off x="2671920" y="246672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Má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8365400">
            <a:off x="3047400" y="403740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M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9164600">
            <a:off x="2512800" y="3428640"/>
            <a:ext cx="17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46800">
            <a:off x="1260000" y="21934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6244400">
            <a:off x="1009440" y="51120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m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506760" y="947880"/>
            <a:ext cx="0" cy="2815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3733920"/>
            <a:ext cx="7561440" cy="2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06760" y="3763800"/>
            <a:ext cx="0" cy="248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17840" y="5005440"/>
            <a:ext cx="176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17840" y="2521080"/>
            <a:ext cx="176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895480" y="865080"/>
            <a:ext cx="4043520" cy="34020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506760" y="1444680"/>
            <a:ext cx="2727360" cy="10764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506760" y="1444320"/>
            <a:ext cx="2727360" cy="356076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94240" y="1444680"/>
            <a:ext cx="26398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1905120"/>
            <a:ext cx="22096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34120" y="1444680"/>
            <a:ext cx="0" cy="2319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15000" y="1905120"/>
            <a:ext cx="0" cy="18856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42080" y="3763800"/>
            <a:ext cx="96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65400" y="533520"/>
            <a:ext cx="5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114300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160020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8120" y="22860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90800" y="467532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19920" y="37339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62720" y="37339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18423000">
            <a:off x="3849840" y="33876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Esfuerzo Mí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19294800">
            <a:off x="3427920" y="289476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Esfuerzo Me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20264400">
            <a:off x="3732840" y="2057040"/>
            <a:ext cx="11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Esfuerzo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Má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505320" y="1904760"/>
            <a:ext cx="152388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029200" y="1905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1905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105160" y="1905120"/>
            <a:ext cx="60948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505320" y="2895120"/>
            <a:ext cx="1600200" cy="2133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286000" y="5029200"/>
            <a:ext cx="1219320" cy="103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905120" y="2514600"/>
            <a:ext cx="16002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8080" y="2057400"/>
            <a:ext cx="38862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24280" y="2057400"/>
            <a:ext cx="0" cy="1676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2743200"/>
            <a:ext cx="28954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3429000"/>
            <a:ext cx="32767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66680" y="20574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4640" y="2438280"/>
            <a:ext cx="65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20574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73520" y="2438280"/>
            <a:ext cx="43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11960" y="327672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2057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0" y="2743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60760" y="213372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60760" y="281952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06120" y="3657600"/>
            <a:ext cx="4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595240" y="304920"/>
            <a:ext cx="39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Diagrama de Soderbe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91120" y="121932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00200" y="342900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14800" y="2057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1120" y="342900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60020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8168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81680" y="34290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34290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23888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4300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14400" y="35053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35053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29400" y="34290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86600" y="34290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41840" y="91440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33920" y="18288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91120" y="2057400"/>
            <a:ext cx="259056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1599840" y="2057400"/>
            <a:ext cx="259092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91120" y="2057400"/>
            <a:ext cx="304776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142640" y="2057400"/>
            <a:ext cx="304812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71120" y="2133720"/>
            <a:ext cx="11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Goo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248520" y="2514600"/>
            <a:ext cx="3045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486040" y="38862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599480" y="40384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m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1219320" y="449568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859160" y="3352680"/>
            <a:ext cx="4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53040" y="191448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48320" y="19051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19810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181480" y="19051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22860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486400" y="24382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81480" y="23623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10080" y="21337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91320" y="25146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19920" y="28195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77120" y="28954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05320" y="206676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90720" y="22096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20574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05120" y="22860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19810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33720" y="18288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17524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81280" y="14479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00400" y="14479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17524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666880" y="14479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16002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21337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15238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191120" y="213372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00200" y="434340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14800" y="2971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91120" y="434340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0020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168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43434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43434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23888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4300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14400" y="44197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47920" y="44197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629400" y="43434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086600" y="43434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65520" y="53352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33920" y="25909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91120" y="2971800"/>
            <a:ext cx="304776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91120" y="1752480"/>
            <a:ext cx="2590560" cy="2590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1599840" y="1752480"/>
            <a:ext cx="2590920" cy="2590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859160" y="4267080"/>
            <a:ext cx="4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187880" y="609120"/>
            <a:ext cx="3240" cy="3737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14800" y="1752480"/>
            <a:ext cx="152280" cy="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657600" y="152388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1120" y="2971800"/>
            <a:ext cx="220968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962520"/>
            <a:ext cx="3808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971440" y="297180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600200" y="2971800"/>
            <a:ext cx="13716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191120" y="2742840"/>
            <a:ext cx="312408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400800" y="3200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7010280" y="28951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941160" y="2841480"/>
            <a:ext cx="362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86840" y="3124080"/>
            <a:ext cx="38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38680" y="3581280"/>
            <a:ext cx="0" cy="762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4190760" y="3581280"/>
            <a:ext cx="14475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14920" y="3352680"/>
            <a:ext cx="40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17280" y="4267080"/>
            <a:ext cx="44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</a:rPr>
              <a:t>Ecuación General de Diseñ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14600" y="14446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1600200"/>
            <a:ext cx="43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97480" y="155088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30440" y="1781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2590920"/>
            <a:ext cx="44193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eficiente de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3526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eficiente de la “Ignoranci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bre aspectos no cuantificables mediante mod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Factor de seguridad: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 = 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· 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Fu/F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S/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u: carga máxim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p: carga admisible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fuerzo adm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593440" y="304920"/>
            <a:ext cx="33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Teorías no Line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85800" y="1143000"/>
            <a:ext cx="7086240" cy="3885840"/>
            <a:chOff x="685800" y="1143000"/>
            <a:chExt cx="7086240" cy="3885840"/>
          </a:xfrm>
        </p:grpSpPr>
        <p:sp>
          <p:nvSpPr>
            <p:cNvPr id="456" name=""/>
            <p:cNvSpPr/>
            <p:nvPr/>
          </p:nvSpPr>
          <p:spPr>
            <a:xfrm>
              <a:off x="1458720" y="1143000"/>
              <a:ext cx="0" cy="388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29480" y="2330640"/>
              <a:ext cx="257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458720" y="4273560"/>
              <a:ext cx="438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839560" y="416556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39560" y="4273560"/>
              <a:ext cx="1932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12480" y="416556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81440" y="4273560"/>
              <a:ext cx="13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s-CL" sz="20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54360" y="4273560"/>
              <a:ext cx="13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s-CL" sz="2000" spc="-1" strike="noStrike" baseline="-25000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85800" y="1790640"/>
              <a:ext cx="1338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s-CL" sz="2000" spc="-1" strike="noStrike" baseline="-25000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58720" y="2330640"/>
              <a:ext cx="5153760" cy="1942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58720" y="2330640"/>
              <a:ext cx="5153760" cy="1942920"/>
            </a:xfrm>
            <a:custGeom>
              <a:avLst/>
              <a:gdLst/>
              <a:ahLst/>
              <a:rect l="l" t="t" r="r" b="b"/>
              <a:pathLst>
                <a:path w="1920" h="864">
                  <a:moveTo>
                    <a:pt x="0" y="0"/>
                  </a:moveTo>
                  <a:cubicBezTo>
                    <a:pt x="92" y="12"/>
                    <a:pt x="184" y="24"/>
                    <a:pt x="288" y="48"/>
                  </a:cubicBezTo>
                  <a:cubicBezTo>
                    <a:pt x="392" y="72"/>
                    <a:pt x="504" y="104"/>
                    <a:pt x="624" y="144"/>
                  </a:cubicBezTo>
                  <a:cubicBezTo>
                    <a:pt x="744" y="184"/>
                    <a:pt x="880" y="232"/>
                    <a:pt x="1008" y="288"/>
                  </a:cubicBezTo>
                  <a:cubicBezTo>
                    <a:pt x="1136" y="344"/>
                    <a:pt x="1264" y="408"/>
                    <a:pt x="1392" y="480"/>
                  </a:cubicBezTo>
                  <a:cubicBezTo>
                    <a:pt x="1520" y="552"/>
                    <a:pt x="1688" y="656"/>
                    <a:pt x="1776" y="720"/>
                  </a:cubicBezTo>
                  <a:cubicBezTo>
                    <a:pt x="1864" y="784"/>
                    <a:pt x="1896" y="840"/>
                    <a:pt x="1920" y="86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58720" y="2294280"/>
              <a:ext cx="4380480" cy="1978920"/>
            </a:xfrm>
            <a:custGeom>
              <a:avLst/>
              <a:gdLst/>
              <a:ahLst/>
              <a:rect l="l" t="t" r="r" b="b"/>
              <a:pathLst>
                <a:path w="1632" h="880">
                  <a:moveTo>
                    <a:pt x="0" y="16"/>
                  </a:moveTo>
                  <a:cubicBezTo>
                    <a:pt x="116" y="8"/>
                    <a:pt x="232" y="0"/>
                    <a:pt x="384" y="16"/>
                  </a:cubicBezTo>
                  <a:cubicBezTo>
                    <a:pt x="536" y="32"/>
                    <a:pt x="744" y="24"/>
                    <a:pt x="912" y="112"/>
                  </a:cubicBezTo>
                  <a:cubicBezTo>
                    <a:pt x="1080" y="200"/>
                    <a:pt x="1272" y="416"/>
                    <a:pt x="1392" y="544"/>
                  </a:cubicBezTo>
                  <a:cubicBezTo>
                    <a:pt x="1512" y="672"/>
                    <a:pt x="1592" y="824"/>
                    <a:pt x="1632" y="880"/>
                  </a:cubicBezTo>
                </a:path>
              </a:pathLst>
            </a:custGeom>
            <a:noFill/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58720" y="2330640"/>
              <a:ext cx="5239440" cy="1942920"/>
            </a:xfrm>
            <a:custGeom>
              <a:avLst/>
              <a:gdLst/>
              <a:ahLst/>
              <a:rect l="l" t="t" r="r" b="b"/>
              <a:pathLst>
                <a:path w="1952" h="864">
                  <a:moveTo>
                    <a:pt x="0" y="0"/>
                  </a:moveTo>
                  <a:cubicBezTo>
                    <a:pt x="168" y="16"/>
                    <a:pt x="336" y="32"/>
                    <a:pt x="480" y="48"/>
                  </a:cubicBezTo>
                  <a:cubicBezTo>
                    <a:pt x="624" y="64"/>
                    <a:pt x="728" y="72"/>
                    <a:pt x="864" y="96"/>
                  </a:cubicBezTo>
                  <a:cubicBezTo>
                    <a:pt x="1000" y="120"/>
                    <a:pt x="1152" y="136"/>
                    <a:pt x="1296" y="192"/>
                  </a:cubicBezTo>
                  <a:cubicBezTo>
                    <a:pt x="1440" y="248"/>
                    <a:pt x="1624" y="360"/>
                    <a:pt x="1728" y="432"/>
                  </a:cubicBezTo>
                  <a:cubicBezTo>
                    <a:pt x="1832" y="504"/>
                    <a:pt x="1888" y="552"/>
                    <a:pt x="1920" y="624"/>
                  </a:cubicBezTo>
                  <a:cubicBezTo>
                    <a:pt x="1952" y="696"/>
                    <a:pt x="1920" y="824"/>
                    <a:pt x="1920" y="864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87960" y="2978280"/>
              <a:ext cx="98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Goodm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78200" y="351792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Bag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34880" y="168300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Ger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26200" y="2114280"/>
              <a:ext cx="109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Kececiogl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2231640" y="2761560"/>
              <a:ext cx="257400" cy="32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391200" y="2869920"/>
              <a:ext cx="1030320" cy="75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3520080" y="2114280"/>
              <a:ext cx="257400" cy="64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581440" y="2546280"/>
              <a:ext cx="51552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133720" y="1905120"/>
            <a:ext cx="7617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05120" y="1905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19047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9810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0574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1333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22096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2860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3619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24382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25146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25146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25905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26668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27432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8191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8954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29718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30477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18759600">
            <a:off x="1866960" y="1333080"/>
            <a:ext cx="228600" cy="106668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1066680"/>
              <a:gd name="textAreaBottom" fmla="*/ 1055520 h 1066680"/>
            </a:gdLst>
            <a:ahLst/>
            <a:rect l="textAreaLeft" t="textAreaTop" r="textAreaRight" b="textAreaBottom"/>
            <a:pathLst>
              <a:path w="21600" h="100664">
                <a:moveTo>
                  <a:pt x="3600" y="0"/>
                </a:moveTo>
                <a:arcTo wR="3600" hR="3600" stAng="16200000" swAng="-5400000"/>
                <a:lnTo>
                  <a:pt x="0" y="97064"/>
                </a:lnTo>
                <a:arcTo wR="3600" hR="3600" stAng="10800000" swAng="-5400000"/>
                <a:lnTo>
                  <a:pt x="18000" y="1006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799920" y="2018880"/>
            <a:ext cx="381240" cy="304920"/>
          </a:xfrm>
          <a:prstGeom prst="flowChartDelay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736800" y="38088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2941200">
            <a:off x="1222920" y="1278720"/>
            <a:ext cx="228600" cy="111924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1119240"/>
              <a:gd name="textAreaBottom" fmla="*/ 1108080 h 1119240"/>
            </a:gdLst>
            <a:ahLst/>
            <a:rect l="textAreaLeft" t="textAreaTop" r="textAreaRight" b="textAreaBottom"/>
            <a:pathLst>
              <a:path w="21600" h="105623">
                <a:moveTo>
                  <a:pt x="3600" y="0"/>
                </a:moveTo>
                <a:arcTo wR="3600" hR="3600" stAng="16200000" swAng="-5400000"/>
                <a:lnTo>
                  <a:pt x="0" y="102023"/>
                </a:lnTo>
                <a:arcTo wR="3600" hR="3600" stAng="10800000" swAng="-5400000"/>
                <a:lnTo>
                  <a:pt x="18000" y="105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" y="236232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14400" y="20574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00200" y="144792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228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045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808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4572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331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094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858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7617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838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838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914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9903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10666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11430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12189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2952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1371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371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14475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5238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002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16761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7524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8288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19047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1981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1981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2057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21333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22096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22860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3619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24382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2514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25905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26668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27432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8191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8954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9718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0477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124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3200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200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209680" y="20574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4920" y="213372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2895480" y="21337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609480" y="2971440"/>
            <a:ext cx="533160" cy="990360"/>
            <a:chOff x="609480" y="2971440"/>
            <a:chExt cx="533160" cy="990360"/>
          </a:xfrm>
        </p:grpSpPr>
        <p:sp>
          <p:nvSpPr>
            <p:cNvPr id="551" name=""/>
            <p:cNvSpPr/>
            <p:nvPr/>
          </p:nvSpPr>
          <p:spPr>
            <a:xfrm>
              <a:off x="742320" y="2971800"/>
              <a:ext cx="267120" cy="14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9480" y="3113280"/>
              <a:ext cx="533160" cy="7070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42320" y="3820320"/>
              <a:ext cx="267120" cy="14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480" y="3395880"/>
              <a:ext cx="533160" cy="141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42320" y="297144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42320" y="297180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2320" y="381996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42320" y="382032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 flipH="1">
            <a:off x="1143000" y="34290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57400" y="1905120"/>
            <a:ext cx="609480" cy="60948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2666880"/>
            <a:ext cx="1600200" cy="160020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78160" y="1752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449360" y="3048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57200" y="449568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57200" y="586728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57200" y="4724280"/>
            <a:ext cx="838080" cy="1143000"/>
          </a:xfrm>
          <a:custGeom>
            <a:avLst/>
            <a:gdLst/>
            <a:ahLst/>
            <a:rect l="l" t="t" r="r" b="b"/>
            <a:pathLst>
              <a:path w="576" h="544">
                <a:moveTo>
                  <a:pt x="0" y="544"/>
                </a:moveTo>
                <a:cubicBezTo>
                  <a:pt x="32" y="532"/>
                  <a:pt x="64" y="520"/>
                  <a:pt x="96" y="448"/>
                </a:cubicBezTo>
                <a:cubicBezTo>
                  <a:pt x="128" y="376"/>
                  <a:pt x="160" y="184"/>
                  <a:pt x="192" y="112"/>
                </a:cubicBezTo>
                <a:cubicBezTo>
                  <a:pt x="224" y="40"/>
                  <a:pt x="256" y="24"/>
                  <a:pt x="288" y="16"/>
                </a:cubicBezTo>
                <a:cubicBezTo>
                  <a:pt x="320" y="8"/>
                  <a:pt x="352" y="0"/>
                  <a:pt x="384" y="64"/>
                </a:cubicBezTo>
                <a:cubicBezTo>
                  <a:pt x="416" y="128"/>
                  <a:pt x="448" y="320"/>
                  <a:pt x="480" y="400"/>
                </a:cubicBezTo>
                <a:cubicBezTo>
                  <a:pt x="512" y="480"/>
                  <a:pt x="560" y="520"/>
                  <a:pt x="576" y="5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676520" y="4724280"/>
            <a:ext cx="838080" cy="1143000"/>
          </a:xfrm>
          <a:custGeom>
            <a:avLst/>
            <a:gdLst/>
            <a:ahLst/>
            <a:rect l="l" t="t" r="r" b="b"/>
            <a:pathLst>
              <a:path w="576" h="544">
                <a:moveTo>
                  <a:pt x="0" y="544"/>
                </a:moveTo>
                <a:cubicBezTo>
                  <a:pt x="32" y="532"/>
                  <a:pt x="64" y="520"/>
                  <a:pt x="96" y="448"/>
                </a:cubicBezTo>
                <a:cubicBezTo>
                  <a:pt x="128" y="376"/>
                  <a:pt x="160" y="184"/>
                  <a:pt x="192" y="112"/>
                </a:cubicBezTo>
                <a:cubicBezTo>
                  <a:pt x="224" y="40"/>
                  <a:pt x="256" y="24"/>
                  <a:pt x="288" y="16"/>
                </a:cubicBezTo>
                <a:cubicBezTo>
                  <a:pt x="320" y="8"/>
                  <a:pt x="352" y="0"/>
                  <a:pt x="384" y="64"/>
                </a:cubicBezTo>
                <a:cubicBezTo>
                  <a:pt x="416" y="128"/>
                  <a:pt x="448" y="320"/>
                  <a:pt x="480" y="400"/>
                </a:cubicBezTo>
                <a:cubicBezTo>
                  <a:pt x="512" y="480"/>
                  <a:pt x="560" y="520"/>
                  <a:pt x="576" y="5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48120" y="4724280"/>
            <a:ext cx="838080" cy="1143000"/>
          </a:xfrm>
          <a:custGeom>
            <a:avLst/>
            <a:gdLst/>
            <a:ahLst/>
            <a:rect l="l" t="t" r="r" b="b"/>
            <a:pathLst>
              <a:path w="576" h="544">
                <a:moveTo>
                  <a:pt x="0" y="544"/>
                </a:moveTo>
                <a:cubicBezTo>
                  <a:pt x="32" y="532"/>
                  <a:pt x="64" y="520"/>
                  <a:pt x="96" y="448"/>
                </a:cubicBezTo>
                <a:cubicBezTo>
                  <a:pt x="128" y="376"/>
                  <a:pt x="160" y="184"/>
                  <a:pt x="192" y="112"/>
                </a:cubicBezTo>
                <a:cubicBezTo>
                  <a:pt x="224" y="40"/>
                  <a:pt x="256" y="24"/>
                  <a:pt x="288" y="16"/>
                </a:cubicBezTo>
                <a:cubicBezTo>
                  <a:pt x="320" y="8"/>
                  <a:pt x="352" y="0"/>
                  <a:pt x="384" y="64"/>
                </a:cubicBezTo>
                <a:cubicBezTo>
                  <a:pt x="416" y="128"/>
                  <a:pt x="448" y="320"/>
                  <a:pt x="480" y="400"/>
                </a:cubicBezTo>
                <a:cubicBezTo>
                  <a:pt x="512" y="480"/>
                  <a:pt x="560" y="520"/>
                  <a:pt x="576" y="5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7760" y="4419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600200" y="594360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19720" y="1192320"/>
            <a:ext cx="21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M 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máx 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= 480 N ·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rot="19177200">
            <a:off x="1641600" y="255384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19720" y="1600200"/>
            <a:ext cx="44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Acero UNS G10350 Trat. Térmico y estirado a 650ºC, acabado 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343400" y="2438280"/>
            <a:ext cx="36576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Confiabilidad = 9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Factor Conc esfuerzo = 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ys 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=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us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 = 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es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 = 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Sin considerar tor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95680" y="4952880"/>
            <a:ext cx="4648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427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627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95680" y="5867280"/>
            <a:ext cx="46483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(min)=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/ n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s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427 / 1.3 =  328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(min)=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/ n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s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627 / 1.1 = 570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990720" y="1295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Verificación por carga está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89280" y="2535120"/>
            <a:ext cx="352080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(min)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(flexión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899960" y="2209680"/>
            <a:ext cx="90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· n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05880" y="28195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134800" y="3452760"/>
            <a:ext cx="159804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 = 4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 / c = d 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/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1 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09880" y="3505320"/>
            <a:ext cx="152640" cy="990360"/>
          </a:xfrm>
          <a:custGeom>
            <a:avLst/>
            <a:gdLst>
              <a:gd name="textAreaLeft" fmla="*/ 0 w 152640"/>
              <a:gd name="textAreaRight" fmla="*/ 55080 w 1526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14800" y="38098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031720" y="3733920"/>
            <a:ext cx="14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31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76920" y="274320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99072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Verificación por Fati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209680" y="1447920"/>
            <a:ext cx="495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S`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2057400"/>
            <a:ext cx="807732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Terminación superficial: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i="1" lang="es-CL" sz="18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Tamaño: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i="1" lang="es-CL" sz="1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1.189 · d 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-0.097</a:t>
            </a: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 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nfiabilidad (95%)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i="1" lang="es-CL" sz="1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8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ncentración de  Esfuerzos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q = 0.84 (r = 3 mm;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627 M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1+(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-1)=1+(1.6-1)=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1 /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0.6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Límite Indurancia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`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55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313.5 MPa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90720" y="495288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0.74·0.8·0.868·0.665·313.5 = 107.4 MP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143000" y="548640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(min) =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/ 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107.4 / 1.8 = 59.7 MP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009160" y="406440"/>
            <a:ext cx="156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610080" y="228600"/>
            <a:ext cx="217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(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/2) · n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198680" y="685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657600" y="6858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085480" y="1523880"/>
            <a:ext cx="156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688200" y="134604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(480/2) ·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74640" y="1803240"/>
            <a:ext cx="7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733920" y="180324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97680" y="153036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631200" y="1371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9960" y="182880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705720" y="18288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456720" y="2260440"/>
            <a:ext cx="169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90720" y="340344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90720" y="561348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81280" y="55371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581280" y="5613480"/>
            <a:ext cx="44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038480" y="55371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29000" y="561348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791320" y="591804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5120" y="180324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791320" y="5613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987480" y="1879200"/>
            <a:ext cx="3240" cy="3737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378468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0880" y="34797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59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990720" y="3784680"/>
            <a:ext cx="5181480" cy="182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990720" y="2565000"/>
            <a:ext cx="761760" cy="304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47920" y="3936960"/>
            <a:ext cx="0" cy="1676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990720" y="3936960"/>
            <a:ext cx="4572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480" y="3659040"/>
            <a:ext cx="88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8400" y="5689440"/>
            <a:ext cx="86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52480" y="271764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47920" y="363204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76520" y="3098880"/>
            <a:ext cx="1082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92920" y="3098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497480" y="309888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724280" y="3022560"/>
            <a:ext cx="3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35920" y="3022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09200" y="340344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4 · 10 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410080" y="34797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800600" y="30988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30988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708600" y="3098880"/>
            <a:ext cx="17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44.9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974680" y="38088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tiga en To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133720" y="1295280"/>
            <a:ext cx="586728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0.577 ·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e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5 ·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 (Teoría esfuerzo cortante máxi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e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577 ·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 (Teoría energía de distors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971800" y="27432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9548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971800" y="495288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562720" y="4876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562720" y="49528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4876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10080" y="495288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867280" y="495288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514600" y="32004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971800" y="3581280"/>
            <a:ext cx="304812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968560" y="2438280"/>
            <a:ext cx="3240" cy="251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71800" y="358128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419720" y="3581280"/>
            <a:ext cx="11430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4680" y="4648320"/>
            <a:ext cx="4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45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452760" y="326880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251160" y="3363840"/>
            <a:ext cx="57240" cy="33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048120" y="3300480"/>
            <a:ext cx="58680" cy="33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57760" y="339408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262400" y="326880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010040" y="3205080"/>
            <a:ext cx="5724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626000" y="3567240"/>
            <a:ext cx="5724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30640" y="3441600"/>
            <a:ext cx="5724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776840" y="344160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878360" y="356724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63920" y="304812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3809880"/>
            <a:ext cx="58680" cy="33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554280" y="3332160"/>
            <a:ext cx="57240" cy="33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98880" y="3079800"/>
            <a:ext cx="57240" cy="33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971800" y="39625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24280" y="3962520"/>
            <a:ext cx="0" cy="990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438280" y="36576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19720" y="48769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2975040" y="380880"/>
            <a:ext cx="33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Cargas combin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65480" y="1447920"/>
            <a:ext cx="4078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m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14968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316960" y="2286000"/>
            <a:ext cx="3857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a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a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233532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447920" y="91440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fuerzos Von Mis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598040" y="297180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tado de Esfuerzos Biax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133720" y="3657600"/>
            <a:ext cx="6248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m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+ 3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xym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09680" y="4495680"/>
            <a:ext cx="5943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a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a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3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xya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124080" y="3733920"/>
            <a:ext cx="472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00400" y="457200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0"/>
            <a:ext cx="853416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RITERIOS DE FALLA DE LOS MATERAILES</a:t>
            </a:r>
            <a:br>
              <a:rPr sz="2800"/>
            </a:b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(Carga está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Esfuerzo Normal Máxi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1523880"/>
            <a:ext cx="207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14360" y="2027160"/>
            <a:ext cx="601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Fluencia: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yt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-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y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14720" y="2666880"/>
            <a:ext cx="6023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Ruptura: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-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657600"/>
            <a:ext cx="6950160" cy="20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Esfuerzo Cortante Máxi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sy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=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sy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0.5 ·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3808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de la Energía de Disto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Esfuerzo triax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Esfuerzo Biax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Coulomb-Mohr (Materiales Frág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 -</a:t>
            </a: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 =</a:t>
            </a:r>
            <a:r>
              <a:rPr b="0" i="1" lang="es-CL" sz="5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 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Concentración de Ten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1520" y="2575080"/>
            <a:ext cx="2946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5400" y="4495680"/>
            <a:ext cx="2946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35200" y="3306600"/>
            <a:ext cx="758880" cy="3654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096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9777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1462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3143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4828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509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8194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9875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5568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3241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49408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66220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3068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99880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16692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33540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810360" y="4488480"/>
            <a:ext cx="2526120" cy="379440"/>
            <a:chOff x="810360" y="4488480"/>
            <a:chExt cx="2526120" cy="379440"/>
          </a:xfrm>
        </p:grpSpPr>
        <p:sp>
          <p:nvSpPr>
            <p:cNvPr id="77" name=""/>
            <p:cNvSpPr/>
            <p:nvPr/>
          </p:nvSpPr>
          <p:spPr>
            <a:xfrm>
              <a:off x="3335760" y="448848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67640" y="448956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99520" y="449064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30680" y="449136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2560" y="449244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94440" y="449316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5600" y="449424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57480" y="449532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89360" y="449604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20520" y="449712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52400" y="449820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84280" y="449892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15440" y="450000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7320" y="450072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78840" y="450180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0360" y="450288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04920" y="3489480"/>
            <a:ext cx="412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735200" y="2849400"/>
            <a:ext cx="0" cy="6400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566720" y="2941560"/>
            <a:ext cx="0" cy="547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398600" y="3032280"/>
            <a:ext cx="0" cy="4572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230480" y="31237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062000" y="3214440"/>
            <a:ext cx="0" cy="2746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89388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254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5728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888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494080" y="2849400"/>
            <a:ext cx="0" cy="6400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662200" y="2941560"/>
            <a:ext cx="0" cy="547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830680" y="3032280"/>
            <a:ext cx="0" cy="4572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998800" y="31237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166920" y="3214440"/>
            <a:ext cx="0" cy="2746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84012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6720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50352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3354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13040" y="12952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43120" y="48610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8600" y="2849400"/>
            <a:ext cx="65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94080" y="2849400"/>
            <a:ext cx="2019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0960" y="2849400"/>
            <a:ext cx="0" cy="640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35200" y="3489480"/>
            <a:ext cx="0" cy="54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94080" y="348948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35200" y="3946680"/>
            <a:ext cx="758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0880" y="3951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2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9360" y="2849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71800" y="2941560"/>
            <a:ext cx="0" cy="365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071800" y="3671640"/>
            <a:ext cx="0" cy="18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6400" y="1828800"/>
            <a:ext cx="898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3640" y="19080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89000" y="1830240"/>
            <a:ext cx="588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7280" y="19098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(1+2b/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64880" y="2971800"/>
            <a:ext cx="25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Cuando a=b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505320"/>
            <a:ext cx="968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9960" y="35830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64960" y="3505320"/>
            <a:ext cx="817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DISEÑO A FATI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62840" y="1360440"/>
            <a:ext cx="62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Límite de Indurancia de los Mate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38080" y="1893960"/>
            <a:ext cx="41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Aceros y Hierro forj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79840" y="2427120"/>
            <a:ext cx="227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0.5 · 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51760" y="2386080"/>
            <a:ext cx="261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&lt;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14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4280" y="3605040"/>
            <a:ext cx="41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Aceros y Hierro fundi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03880" y="4408560"/>
            <a:ext cx="247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0.45 · 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75080" y="4367160"/>
            <a:ext cx="241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&lt;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6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79840" y="2995560"/>
            <a:ext cx="247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7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67960" y="2954160"/>
            <a:ext cx="2516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&gt;14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27560" y="4976640"/>
            <a:ext cx="247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275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14960" y="4935600"/>
            <a:ext cx="231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&gt;6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4120" y="533520"/>
            <a:ext cx="837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Límite de Indurancia de los Elementos de Má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1600200"/>
            <a:ext cx="495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 S`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48360" y="2971800"/>
            <a:ext cx="4395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Termina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Concentración de 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Efectos v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385280" y="533520"/>
            <a:ext cx="589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Terminación Superficial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1000" y="2133720"/>
            <a:ext cx="8428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Rangos de rugosidad (terminación superficial) por tip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de proceso de manufac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Factores experimentales en función de la rugosida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y de la resistencia a la tracción del material para cad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tipo de proceso de manufac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99320" y="533520"/>
            <a:ext cx="348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Tamaño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1828800"/>
            <a:ext cx="5958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Flexión y torsión secciones circular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Kb en función del diámetro 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2819520"/>
            <a:ext cx="691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Flexión y torsión secciones no circular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Sección rectangular (en función de a,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Sección canal (en función de a,b,t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Sección doble T (en función de a,b,t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707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8T15:08:28Z</dcterms:created>
  <dc:creator>ROBERTO CORVALAN PAIVA</dc:creator>
  <dc:description/>
  <dc:language>en-US</dc:language>
  <cp:lastModifiedBy>Roberto Corvalán Paiva</cp:lastModifiedBy>
  <dcterms:modified xsi:type="dcterms:W3CDTF">2002-08-13T11:40:55Z</dcterms:modified>
  <cp:revision>37</cp:revision>
  <dc:subject/>
  <dc:title>Sin título de diapositiva</dc:title>
</cp:coreProperties>
</file>